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6.png" ContentType="image/png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jpeg" ContentType="image/jpeg"/>
  <Override PartName="/ppt/media/image10.gif" ContentType="image/gif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AFB-1C70-44E8-8E88-C7F2848E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69343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291560"/>
            <a:ext cx="69343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517-9A47-4A48-87B7-19CDA0B5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56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9FA-C058-4FED-8E57-CCEF6CFC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7160" y="228564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1840" y="228564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29156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7160" y="429156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1840" y="429156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DAA-D0DE-46D9-B08C-471CD3E8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28F1-54E8-4500-9597-4606D36A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6D84-3B56-4840-8489-C5911540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E898-2AEC-4DB1-9869-F384BF63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8C99-8DF3-4EA2-BEA3-DD537CBA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C7BB-E9B6-444F-A800-5323D0B8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153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EA0B-A76A-4269-8438-A82C59C0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B9F0-DDD1-4F76-832C-EE34E20F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9B7-8C9D-442F-BE32-2EE5FF51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56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8431-595A-4EAD-BB14-8FF037B7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291560"/>
            <a:ext cx="69343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4B96-6FC5-476A-B3EE-BEE1EBF1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69343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291560"/>
            <a:ext cx="69343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6632-9A03-4D68-8BBF-BB8F2C49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56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8F4B-3A94-410E-8FA1-49E25B64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7160" y="228564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1840" y="228564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29156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7160" y="429156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1840" y="429156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4374-349C-46E5-99DE-172CCFC1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507-4C63-48FF-B7CF-42CEC925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6D0-4BBC-418F-BD2C-6780FBA7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071-3310-447F-9FD9-6B448305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153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E7B-E365-4A61-9538-AE894F26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EFA-7BA3-422F-BA2C-0B8448E3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56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DB9-6492-43C2-9E93-E53D301C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291560"/>
            <a:ext cx="69343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F30-159F-4F9D-AC16-18112168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3ABC-1643-4F1E-A29F-8A28F92B9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8858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56B0-EE5E-48A6-AF38-3EEF014A4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cc66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cc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cc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cc66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cc66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cc66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cc66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ct"/><Relationship Id="rId1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38858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Fraction Addition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320" y="480060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1320" y="665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Addition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Find a common denominato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Multiply numerator and denominator by the same numbe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16560" y="2514600"/>
          <a:ext cx="907920" cy="221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6560" y="2514600"/>
                    <a:ext cx="90792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Addition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Find a common denominato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Multiply numerator and denominator by the same numbe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416560" y="2438280"/>
          <a:ext cx="907920" cy="33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6560" y="2438280"/>
                    <a:ext cx="90792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y one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91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138400" y="1981080"/>
          <a:ext cx="97308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8400" y="1981080"/>
                    <a:ext cx="9730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y some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91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362320" y="3200400"/>
                <a:ext cx="663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09680" y="4419720"/>
                <a:ext cx="1143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Apples and Oranges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The things you add have to be the same size</a:t>
            </a:r>
            <a:endParaRPr b="0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00400" y="2590920"/>
          <a:ext cx="21049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590920"/>
                    <a:ext cx="2104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523880" y="2590920"/>
          <a:ext cx="210528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2590920"/>
                    <a:ext cx="2105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934320" y="2286000"/>
          <a:ext cx="1752480" cy="171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34320" y="2286000"/>
                    <a:ext cx="17524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447920" y="4114800"/>
          <a:ext cx="210348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7920" y="4114800"/>
                    <a:ext cx="21034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76720" y="4114800"/>
          <a:ext cx="2104920" cy="182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76720" y="4114800"/>
                    <a:ext cx="2104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38680" y="3809880"/>
                <a:ext cx="17557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32004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mon Denominator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ommon Denominator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A number all original denominators divide into evenly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 is a common denominator because 3 and 4 both divide 12 evenly.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657600" y="3124080"/>
                <a:ext cx="1873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Least Common Denominator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6782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To find the least common denominato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Write the times table list for each denominato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The smallest number that is in all rows is the least common denominato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52680" y="1905120"/>
            <a:ext cx="22860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Least Common Denominator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To find the least common denominator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Write the times table list for each denominator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The smallest number that is in all rows is the least common denominator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3962520"/>
                <a:ext cx="6019920" cy="25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ba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y One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common denominator for these fractions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Addition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Find a common denominato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Multiply numerator and denominator by the same numbe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08640" y="2438280"/>
                <a:ext cx="763560" cy="24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22:04:34Z</dcterms:created>
  <dc:creator>eclipse</dc:creator>
  <dc:description/>
  <dc:language>en-US</dc:language>
  <cp:lastModifiedBy>Parkland High School</cp:lastModifiedBy>
  <dcterms:modified xsi:type="dcterms:W3CDTF">2010-11-08T13:33:08Z</dcterms:modified>
  <cp:revision>30</cp:revision>
  <dc:subject/>
  <dc:title>Slide 1</dc:title>
</cp:coreProperties>
</file>